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794B-9F6D-45CD-89E1-942CAA9697C5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D202-6BC4-42A9-AB93-599B52C2D776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333399"/>
              </a:solidFill>
              <a:latin typeface="Palatino Linotyp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82E5-099D-4388-B3D1-7C8EF55DDDA3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8F0F-B2AA-441E-A8CB-C04E1B80C440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6DF4-B718-4B0D-B0BC-A734766C09E7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</a:t>
            </a: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 грађ</a:t>
            </a: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E334-C653-4239-A346-7C6F779C6A39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D97E-13BB-4EAE-AF7B-7F1BF6FFD929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AE6E-38F1-47A5-B7F8-43F506BEA31A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26A3-7B3B-4EBD-9878-8F161162C215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081B-CC8B-4C73-B096-3D7302A4FE46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9476-7E9A-46A7-812A-25CA7B528DA9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6EFF-C203-44B7-A7AF-1CCDF655C9BC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FB48-AAEA-42F8-9EEA-0BE07202FBE7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51F3-32C9-4DEF-A694-6524C4EE8DCD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4A70-536A-48DA-B9CC-B642957A8313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2C96-E166-487A-AE79-C06011F719C3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9700-B4FD-4FB5-89E4-F1776F3A86F0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9F6B-FB89-4E5B-802F-EE56461A1DF0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EF12-9072-4E62-9E3D-836ED9E401AC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001F-ACEF-45C6-BA66-479E0408EC1E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858A-2EE7-4E89-85AA-39787AD2F0E3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FC73-5364-438E-AF8F-DB79D4D1328E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FBA8-6927-4D9D-B1D7-D2CC43330FFE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AE49-77FB-4CD6-BCBF-18FAA80ACE7E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F5CA-7703-49DB-B63E-2931538618D4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7C4D-A676-4BDA-B51B-7DD6389167EA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96AC-1A34-460F-8C34-BC5A78FE6D93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2069-613E-4A29-8BF2-130DA151D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7CF7-6887-4EF4-9F76-18533863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2764-28A7-438B-9995-E53FD46F6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37C8-3096-47C3-AD2F-36C19BFE5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BFA4-2BEE-4333-B119-44948C7A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5297-E37E-4C7B-BBD3-397914FE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DD0C-F107-4DB5-A9ED-50845221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4A0D-A268-4AFB-830E-7F191CC0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5520" y="122040"/>
            <a:ext cx="826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A4A4-5F8B-44DB-87AA-EEC7E55C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4688-1094-49E4-85DE-E5FAA503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F493-AD22-4AED-974B-335DBE52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7D2A-63BE-4D76-8819-7301AE46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05200"/>
            <a:ext cx="28958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9720" y="6505200"/>
            <a:ext cx="2133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1999-9973-42C7-807C-A9DDD0E9DC8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3720" y="1268280"/>
            <a:ext cx="82188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423720" y="1312920"/>
            <a:ext cx="41864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2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3BBB-16A0-440C-8590-AA044D8EC79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538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66"/>
                </a:solidFill>
                <a:latin typeface="Palatino Linotype"/>
              </a:rPr>
              <a:t>ХРОНИЧНЕ ПЕРИАПИКАЛНЕ ЛЕЗИЈЕ</a:t>
            </a: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    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1120" y="4060440"/>
            <a:ext cx="864252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Назив предмета: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8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Час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 22- 24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Тематске јединице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Етиологија и патогенеза периапикалних лезија, класификација 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периапикалних лезија, клиничка слика и дијагноза, лечење 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периапикалних лезија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                  </a:t>
            </a:r>
            <a:r>
              <a:rPr b="0" lang="fr-FR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Припремио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sr-CS" sz="1400" spc="-1" strike="noStrike">
                <a:solidFill>
                  <a:srgbClr val="000000"/>
                </a:solidFill>
                <a:latin typeface="Palatino Linotype"/>
              </a:rPr>
              <a:t>Доц. др Мирослав Васовић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" name="Line 4"/>
          <p:cNvSpPr/>
          <p:nvPr/>
        </p:nvSpPr>
        <p:spPr>
          <a:xfrm>
            <a:off x="936720" y="3838680"/>
            <a:ext cx="4782960" cy="1440"/>
          </a:xfrm>
          <a:prstGeom prst="line">
            <a:avLst/>
          </a:prstGeom>
          <a:ln w="38160">
            <a:solidFill>
              <a:srgbClr val="fee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9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0" y="1995480"/>
            <a:ext cx="914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74560" y="6180120"/>
            <a:ext cx="786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Copyright © 201</a:t>
            </a:r>
            <a:r>
              <a:rPr b="0" lang="sr-Latn-R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 – Факултет медицинских наука Универзитета у Крагујевцу. Копирање и умножавање није дозвољен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emo grb copy"/>
          <p:cNvPicPr/>
          <p:nvPr/>
        </p:nvPicPr>
        <p:blipFill>
          <a:blip r:embed="rId1"/>
          <a:stretch/>
        </p:blipFill>
        <p:spPr>
          <a:xfrm>
            <a:off x="209520" y="166680"/>
            <a:ext cx="873756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C7B5-FE92-426E-A7FE-31D719AB652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39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а слика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457200" y="1684440"/>
            <a:ext cx="82058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линичка слика периапикалних лезија је често оскудна, сем у случајевима акутне егзарцебације и појаве дентогених инфекц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 присуство ових лезија треба посумњати увек када постоји некроза пулпе, осетљивост на вертикалну перкусију или палпаторна осетљивост у пределу апекса корена захваћеног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Анамн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даци од пацијента су веома оскудни. Углавном пацијент описује тегобе везане за пулпитичне болове зуба или стања акутне егзарцебације ( појаву болова и отока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0" y="6424560"/>
            <a:ext cx="3713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7F67-36D1-499A-859E-7822722505B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0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а слика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457200" y="1442880"/>
            <a:ext cx="8145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Клинички прегл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кстраорална инспекција пружа податке или о постојању отока као последици акутне егзарцебације или о појави фистуле на кожи, што указује на присуство периапикалне лез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нтраоралном инспекцијом зуба може се запазити постојање дубоких каријеса, као и дисколоритет зубне круне, што указује на постојање развијеног процеса одумирања ткива пулп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C:\Users\Zoran\Downloads\oralna hirurgija\slike\images788877.jpg"/>
          <p:cNvPicPr/>
          <p:nvPr/>
        </p:nvPicPr>
        <p:blipFill>
          <a:blip r:embed="rId1"/>
          <a:stretch/>
        </p:blipFill>
        <p:spPr>
          <a:xfrm>
            <a:off x="3405240" y="4292640"/>
            <a:ext cx="2073240" cy="20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0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а слика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F3F1-8578-4028-9424-AC3C7EACDD7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457200" y="1697040"/>
            <a:ext cx="8205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јава тока и фистуле на слузокожи гребена, такође, указује на лезију у коштаном тки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Фистуле се, као последица периапикалних лезија, обично локализују интраорално на вестибуларној површини алвеоларног гребена. У случају латералних секутића и палатиналних коренова премолара и молара фистуле се могу наћи и са палатиналне стр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C:\Users\Zoran\Downloads\oralna hirurgija\slike\images556565.jpg"/>
          <p:cNvPicPr/>
          <p:nvPr/>
        </p:nvPicPr>
        <p:blipFill>
          <a:blip r:embed="rId1"/>
          <a:stretch/>
        </p:blipFill>
        <p:spPr>
          <a:xfrm>
            <a:off x="3186000" y="4102200"/>
            <a:ext cx="2930760" cy="22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а слика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0" y="6424560"/>
            <a:ext cx="3740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B065-9F14-4629-97F7-58F96B80A56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0"/>
          <p:cNvSpPr/>
          <p:nvPr/>
        </p:nvSpPr>
        <p:spPr>
          <a:xfrm>
            <a:off x="457200" y="1720800"/>
            <a:ext cx="81932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алп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д постојања периапикалних лезија обично нема елонгације кости, често постоји блага осетљивост у висини врхова корена зуба на палпаци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еркус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сетљивост на вертикалну перкусију зуба је позитивна јер се притисак преноси дуж аксијалне осовине зуба на предео где се и иначе дешавају инфламаторни процес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Сондирање и тест виталитета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а слика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26" name="Date Placeholder 3"/>
          <p:cNvSpPr/>
          <p:nvPr/>
        </p:nvSpPr>
        <p:spPr>
          <a:xfrm>
            <a:off x="0" y="6424560"/>
            <a:ext cx="3740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D661-C1D4-45F1-B68B-9527468DF5D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"/>
          <p:cNvSpPr/>
          <p:nvPr/>
        </p:nvSpPr>
        <p:spPr>
          <a:xfrm>
            <a:off x="444600" y="1647720"/>
            <a:ext cx="8518320" cy="44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Радиографска дијагно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имена ове дијагностике, када се сумња на постојање периапикалне лезије, врши се са циљ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ијагностике лезије (облик, величина, локализација, структура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иференцијалне дијагностике (цистични тумори вилица, системске коштане лезиј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дређивања индикација за операц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аћења постоперативног  тока и зараст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39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а слика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31" name="Date Placeholder 3"/>
          <p:cNvSpPr/>
          <p:nvPr/>
        </p:nvSpPr>
        <p:spPr>
          <a:xfrm>
            <a:off x="0" y="6465960"/>
            <a:ext cx="38098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FFB9-C34E-4C8D-82C3-4E98520F027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436680" y="1413000"/>
            <a:ext cx="8157960" cy="51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обра радиографска интерпретација је основ за правилно постављену дијагнозу и одређивање врсте терап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току анализе радиографије посебно се обраћа пажња 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тање ламине д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тање периодонталне мемб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чуваност архитектуре алвеоларне кости (склероза, деминерализациј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тање каналног система (проширен, суже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тепен проходности канала (интерна ресорпција или калцификациј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0" y="6424560"/>
            <a:ext cx="38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2F33-278A-4470-90B2-AF69A69293D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а слика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39" name="TextBox 8"/>
          <p:cNvSpPr/>
          <p:nvPr/>
        </p:nvSpPr>
        <p:spPr>
          <a:xfrm>
            <a:off x="444600" y="1660680"/>
            <a:ext cx="820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ЕРИАПИКАЛНИ ГРАНУ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C:\Users\Zoran\Downloads\oralna hirurgija\slike\pg.jpg"/>
          <p:cNvPicPr/>
          <p:nvPr/>
        </p:nvPicPr>
        <p:blipFill>
          <a:blip r:embed="rId1"/>
          <a:stretch/>
        </p:blipFill>
        <p:spPr>
          <a:xfrm>
            <a:off x="163440" y="2568600"/>
            <a:ext cx="2357640" cy="3024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C:\Users\Zoran\Downloads\oralna hirurgija\slike\images77.jpg"/>
          <p:cNvPicPr/>
          <p:nvPr/>
        </p:nvPicPr>
        <p:blipFill>
          <a:blip r:embed="rId2"/>
          <a:stretch/>
        </p:blipFill>
        <p:spPr>
          <a:xfrm>
            <a:off x="6626160" y="2481120"/>
            <a:ext cx="2282760" cy="3060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C:\Users\Zoran\Downloads\oralna hirurgija\slike\download (28).jpg"/>
          <p:cNvPicPr/>
          <p:nvPr/>
        </p:nvPicPr>
        <p:blipFill>
          <a:blip r:embed="rId3"/>
          <a:stretch/>
        </p:blipFill>
        <p:spPr>
          <a:xfrm>
            <a:off x="3052800" y="3117960"/>
            <a:ext cx="3343320" cy="209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e Placeholder 3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548F-87F0-4713-8D42-5F2AD573779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а слика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444600" y="1697040"/>
            <a:ext cx="821844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ПЕРИАПИКАЛНА  (РАДИКУЛАРНА) Ц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анифестује се на радиограму као јасно ограничено расветљење у пределу врха корена зуба, округлог или овалног обл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8" descr="http://www.dental-centar-omega.hr/aploads/images/kirurgija/balen%201.jpg"/>
          <p:cNvPicPr/>
          <p:nvPr/>
        </p:nvPicPr>
        <p:blipFill>
          <a:blip r:embed="rId1"/>
          <a:stretch/>
        </p:blipFill>
        <p:spPr>
          <a:xfrm>
            <a:off x="2976480" y="3733920"/>
            <a:ext cx="285768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6D4A-D541-4A76-A9D9-EFFC48E9606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а слика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1166760" y="19494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444600" y="1432080"/>
            <a:ext cx="8121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ЕРИАПИКАЛНИ ФИБРОЗНИ ОЖИЉЦИ И ТУМОРИ КОШТАНОГ ТК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епарација фиброзним везивним ткивом након уклањања цисте или гранулома, може да буде погрешно дијагностикована као периапикална лез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умори, одонтогени или неодонтогени могу такође да се јаве у апикалном пределу зуба, када радиографски могу да личе на периапикалне грануломе. У тим случајевима веома често је позитиван тест виталитета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0" y="6424560"/>
            <a:ext cx="390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20D7-CD0F-4742-906D-6ECDD7BE10F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457200" y="1671480"/>
            <a:ext cx="8158320" cy="44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ндодотска терапија од 85 до 95%, ендодонтско хируршка терапија од 5 до 1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Хируршко лечење периапикалних лезија треба примењивати у случајевима када се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линички и радиографски установи да није могуће ендодонтско лече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станови да предходно ендодонтско лечење није било успеш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ада предходна дијагностика укаже на неодонтогено порекло апикалне лез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0" y="6424560"/>
            <a:ext cx="387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03A1-76BE-4BCC-AE8A-1B1418DCCCE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Етиологија и патогенеза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457200" y="1419120"/>
            <a:ext cx="8182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Palatino Linotype"/>
              </a:rPr>
              <a:t>Периапикалне лезије  су патолошке промене које настају на врху коренова авиталних зуба, када некротични садржај канала корена, вршећи сталну иритацију апикалног предела, условљава појаву хроничне инфлама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зроци некрозе пулпе могу да буду различити, мада се, као најважнији етиолошки фактор, најчешће описује каријес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, траума, хемијска, термичка некр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HemiSekcija.avi" descr=""/>
          <p:cNvPicPr/>
          <p:nvPr/>
        </p:nvPicPr>
        <p:blipFill>
          <a:blip r:embed="rId1"/>
          <a:srcRect l="25767" t="3319" r="9865" b="7333"/>
          <a:stretch/>
        </p:blipFill>
        <p:spPr>
          <a:xfrm>
            <a:off x="3159000" y="3913200"/>
            <a:ext cx="2703600" cy="23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4273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61" name="Date Placeholder 3"/>
          <p:cNvSpPr/>
          <p:nvPr/>
        </p:nvSpPr>
        <p:spPr>
          <a:xfrm>
            <a:off x="0" y="6424560"/>
            <a:ext cx="390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C0C8-3930-410E-A732-6DA6433F758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420840" y="1708200"/>
            <a:ext cx="8229600" cy="29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Хируршко лечење периапикалних лезија, у основи, подразумева три могућа поступ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кстракцију зуба и детаљну киретажу периапикалне лез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есекцију корена зуба и киретажу лез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мпутацију и уклањање дела или целог корена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F9D7-15FF-427B-B675-A915F07AE4C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444600" y="1612800"/>
            <a:ext cx="8181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ЕКСТРАКЦИЈА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е све ређе примењује као терапијска опција. Разлози за овакав став су велика потреба за очувањем зуба ради израде фиксних протетских рад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практичном раду, екстракцију зуба треба радити само у случајевима када су периапикалне лезије проширене преко половине корена, а пародонтално оштећене у таквом стадијуму да се не може обезбедити стабилност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акође, екстракцију зуба треба предузети и у случају сумње на фокални узрок обољења и када објективно постоји ризик за потпуни успех хируршког лече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0" y="6424560"/>
            <a:ext cx="3782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24B7-2EE3-489C-A6B5-915878FD41A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74" name="TextBox 9"/>
          <p:cNvSpPr/>
          <p:nvPr/>
        </p:nvSpPr>
        <p:spPr>
          <a:xfrm>
            <a:off x="444600" y="1587600"/>
            <a:ext cx="869940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Хируршко лечење (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ресекција корена зуба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) представља сигуран и у највећем броју случајева успешан поступак којим се уклања периапикална лезија и збрињава и оптурира канал корена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Индикације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асно ограничене периапикалне лезије већих димен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кстремне апикалне повијености кор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обијање корена у апикалном делу (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fousse route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ili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via falsa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аломљени канални инструмент у апикалном делу канала кор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тиснуто канално пуњење у зону периапекса, нос или син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лом врха корена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треба лечења периапикалних лезија на више зуба у једној сеан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потреба за брзим успехом у лечењ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EDF9-0840-4E2A-B2BD-8225E255D1F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79" name="TextBox 7"/>
          <p:cNvSpPr/>
          <p:nvPr/>
        </p:nvSpPr>
        <p:spPr>
          <a:xfrm>
            <a:off x="198360" y="1647720"/>
            <a:ext cx="8813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дицинске контраиндикације су релативне и обично након адекватне припреме пацијента, може се извршити хируршки поступ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Локалне контраиндикациј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кутна обољења дес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ешке форме пародонтопатија са екстремним клаћењем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оша орална хигиј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слаге и зубни камена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ступак хируршког лечења  подразумева медикаментно-механичку обраду канала корена и његову оптурацију одговарајућим материја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5F67-4FA2-438E-B45D-1152E487093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457200" y="1647720"/>
            <a:ext cx="8229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ИЗБОР ВРСТЕ Р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естибуларни режње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лукружни режањ (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Partcsh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" descr="C:\Users\Zoran\Downloads\oralna hirurgija\slike\images (1).jpg"/>
          <p:cNvPicPr/>
          <p:nvPr/>
        </p:nvPicPr>
        <p:blipFill>
          <a:blip r:embed="rId1"/>
          <a:stretch/>
        </p:blipFill>
        <p:spPr>
          <a:xfrm>
            <a:off x="158760" y="3844800"/>
            <a:ext cx="2687760" cy="2016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C:\Users\Zoran\Downloads\oralna hirurgija\slike\download (29).jpg"/>
          <p:cNvPicPr/>
          <p:nvPr/>
        </p:nvPicPr>
        <p:blipFill>
          <a:blip r:embed="rId2"/>
          <a:srcRect l="7360" t="3623" r="14883" b="13025"/>
          <a:stretch/>
        </p:blipFill>
        <p:spPr>
          <a:xfrm>
            <a:off x="3176640" y="3549600"/>
            <a:ext cx="1949400" cy="2430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C:\Users\Zoran\Downloads\oralna hirurgija\slike\captura-de-pantalla-2013-09-13-a-las-15-50-42.png"/>
          <p:cNvPicPr/>
          <p:nvPr/>
        </p:nvPicPr>
        <p:blipFill>
          <a:blip r:embed="rId3"/>
          <a:stretch/>
        </p:blipFill>
        <p:spPr>
          <a:xfrm>
            <a:off x="5332320" y="3943440"/>
            <a:ext cx="352764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Date Placeholder 3"/>
          <p:cNvSpPr/>
          <p:nvPr/>
        </p:nvSpPr>
        <p:spPr>
          <a:xfrm>
            <a:off x="0" y="6424560"/>
            <a:ext cx="3935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9CE2-5262-4CFA-807C-36992CA7F74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81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92" name="TextBox 7"/>
          <p:cNvSpPr/>
          <p:nvPr/>
        </p:nvSpPr>
        <p:spPr>
          <a:xfrm>
            <a:off x="457200" y="1419120"/>
            <a:ext cx="8182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рапезасти режањ (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Novak-Peter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C:\Users\Zoran\Downloads\oralna hirurgija\slike\captura-de-pantalla-2013-09-13-a-las-15-00-29.png"/>
          <p:cNvPicPr/>
          <p:nvPr/>
        </p:nvPicPr>
        <p:blipFill>
          <a:blip r:embed="rId1"/>
          <a:srcRect l="0" t="1522" r="49206" b="0"/>
          <a:stretch/>
        </p:blipFill>
        <p:spPr>
          <a:xfrm>
            <a:off x="2770200" y="1876320"/>
            <a:ext cx="3106800" cy="45370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9"/>
          <p:cNvSpPr/>
          <p:nvPr/>
        </p:nvSpPr>
        <p:spPr>
          <a:xfrm>
            <a:off x="5137200" y="3705120"/>
            <a:ext cx="73512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5149800" y="4656240"/>
            <a:ext cx="73332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Date Placeholder 3"/>
          <p:cNvSpPr/>
          <p:nvPr/>
        </p:nvSpPr>
        <p:spPr>
          <a:xfrm>
            <a:off x="0" y="6424560"/>
            <a:ext cx="38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9526-F5A9-4AC0-80F6-6BB1C4450B0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420840" y="1684440"/>
            <a:ext cx="81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гаони режа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1" descr="S8001206"/>
          <p:cNvPicPr/>
          <p:nvPr/>
        </p:nvPicPr>
        <p:blipFill>
          <a:blip r:embed="rId1"/>
          <a:srcRect l="4716" t="11492" r="14790" b="64"/>
          <a:stretch/>
        </p:blipFill>
        <p:spPr>
          <a:xfrm>
            <a:off x="828720" y="2387520"/>
            <a:ext cx="4089240" cy="3059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S8001336"/>
          <p:cNvPicPr/>
          <p:nvPr/>
        </p:nvPicPr>
        <p:blipFill>
          <a:blip r:embed="rId2"/>
          <a:srcRect l="24804" t="4012" r="22824" b="15758"/>
          <a:stretch/>
        </p:blipFill>
        <p:spPr>
          <a:xfrm>
            <a:off x="5246640" y="2286000"/>
            <a:ext cx="3205080" cy="35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18FE-AEE0-4B91-BF15-B1F0A80EABF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07" name="TextBox 7"/>
          <p:cNvSpPr/>
          <p:nvPr/>
        </p:nvSpPr>
        <p:spPr>
          <a:xfrm>
            <a:off x="444600" y="1684440"/>
            <a:ext cx="8205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алатинални режње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улкусни палатинални режањ (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Wassmund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8" descr="S8001212"/>
          <p:cNvPicPr/>
          <p:nvPr/>
        </p:nvPicPr>
        <p:blipFill>
          <a:blip r:embed="rId1"/>
          <a:stretch/>
        </p:blipFill>
        <p:spPr>
          <a:xfrm>
            <a:off x="2357280" y="3063960"/>
            <a:ext cx="3961080" cy="28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3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27EC-A2F6-4DA4-9A07-78AFAA3E3B2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13" name="TextBox 8"/>
          <p:cNvSpPr/>
          <p:nvPr/>
        </p:nvSpPr>
        <p:spPr>
          <a:xfrm>
            <a:off x="517680" y="1612800"/>
            <a:ext cx="792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Гингивални палатинални режањ (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Matis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S8001331"/>
          <p:cNvPicPr/>
          <p:nvPr/>
        </p:nvPicPr>
        <p:blipFill>
          <a:blip r:embed="rId1"/>
          <a:stretch/>
        </p:blipFill>
        <p:spPr>
          <a:xfrm>
            <a:off x="2239920" y="2421000"/>
            <a:ext cx="482436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3"/>
          <p:cNvSpPr/>
          <p:nvPr/>
        </p:nvSpPr>
        <p:spPr>
          <a:xfrm>
            <a:off x="0" y="6424560"/>
            <a:ext cx="3754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081E-764A-4EB0-B7B8-D8B95E123A2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и поступак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19" name="TextBox 9"/>
          <p:cNvSpPr/>
          <p:nvPr/>
        </p:nvSpPr>
        <p:spPr>
          <a:xfrm>
            <a:off x="279360" y="1612800"/>
            <a:ext cx="832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дразумева уклањање патолошке лезије са врха корена зуба и потпуну оптурацију канала кор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Хируршке фазе ра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S8001214"/>
          <p:cNvPicPr/>
          <p:nvPr/>
        </p:nvPicPr>
        <p:blipFill>
          <a:blip r:embed="rId1"/>
          <a:stretch/>
        </p:blipFill>
        <p:spPr>
          <a:xfrm>
            <a:off x="181080" y="31417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S8001215"/>
          <p:cNvPicPr/>
          <p:nvPr/>
        </p:nvPicPr>
        <p:blipFill>
          <a:blip r:embed="rId2"/>
          <a:stretch/>
        </p:blipFill>
        <p:spPr>
          <a:xfrm>
            <a:off x="4937040" y="310500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Етиологија и патогенеза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68" name="Date Placeholder 3"/>
          <p:cNvSpPr/>
          <p:nvPr/>
        </p:nvSpPr>
        <p:spPr>
          <a:xfrm>
            <a:off x="0" y="6424560"/>
            <a:ext cx="3727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D22D-A769-434A-AE5C-37A00A50120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469800" y="1731960"/>
            <a:ext cx="8120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нфламаторна реакција условљава активацију ћелијских и хуморалних медијатора, који утичу на даљу прогредијенцију деструкције тк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ђу ћелијским медијаторима који учествују у механизмима развоја ових реакција, најважнији су макрофаги, плазмоцити, лимфоцити и мастоци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лога ћелијских елемената је одржавање ћелијских механизама одбране организма од штетних нокси, али и улога у синтези хуморалних медијатора запаље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и поступак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23" name="Date Placeholder 3"/>
          <p:cNvSpPr/>
          <p:nvPr/>
        </p:nvSpPr>
        <p:spPr>
          <a:xfrm>
            <a:off x="0" y="6424560"/>
            <a:ext cx="3795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Palatino Linotype"/>
              </a:rPr>
              <a:t>O</a:t>
            </a: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D53A-D03B-45FF-9395-91DC3810E6D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9" descr="S8001216"/>
          <p:cNvPicPr/>
          <p:nvPr/>
        </p:nvPicPr>
        <p:blipFill>
          <a:blip r:embed="rId1"/>
          <a:stretch/>
        </p:blipFill>
        <p:spPr>
          <a:xfrm>
            <a:off x="252360" y="2262240"/>
            <a:ext cx="4356000" cy="30351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S8001219"/>
          <p:cNvPicPr/>
          <p:nvPr/>
        </p:nvPicPr>
        <p:blipFill>
          <a:blip r:embed="rId2"/>
          <a:stretch/>
        </p:blipFill>
        <p:spPr>
          <a:xfrm>
            <a:off x="4619520" y="2249640"/>
            <a:ext cx="4356360" cy="30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3"/>
          <p:cNvSpPr/>
          <p:nvPr/>
        </p:nvSpPr>
        <p:spPr>
          <a:xfrm>
            <a:off x="0" y="6424560"/>
            <a:ext cx="3795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E688-3F48-45D7-AFBA-60FA5A59160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и поступак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232" name="Picture 9" descr="S8001220"/>
          <p:cNvPicPr/>
          <p:nvPr/>
        </p:nvPicPr>
        <p:blipFill>
          <a:blip r:embed="rId1"/>
          <a:stretch/>
        </p:blipFill>
        <p:spPr>
          <a:xfrm>
            <a:off x="299880" y="2378160"/>
            <a:ext cx="3934080" cy="2950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S8001221"/>
          <p:cNvPicPr/>
          <p:nvPr/>
        </p:nvPicPr>
        <p:blipFill>
          <a:blip r:embed="rId2"/>
          <a:stretch/>
        </p:blipFill>
        <p:spPr>
          <a:xfrm>
            <a:off x="4883040" y="2414520"/>
            <a:ext cx="3924360" cy="29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FE07-7A2D-41F1-B748-17E7C74BF21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и поступак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238" name="Picture 11" descr="S8001222"/>
          <p:cNvPicPr/>
          <p:nvPr/>
        </p:nvPicPr>
        <p:blipFill>
          <a:blip r:embed="rId1"/>
          <a:stretch/>
        </p:blipFill>
        <p:spPr>
          <a:xfrm>
            <a:off x="336600" y="2403360"/>
            <a:ext cx="3933720" cy="2951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C:\Users\Zoran\Downloads\oralna hirurgija\slike\images.jpg"/>
          <p:cNvPicPr/>
          <p:nvPr/>
        </p:nvPicPr>
        <p:blipFill>
          <a:blip r:embed="rId2"/>
          <a:srcRect l="14278" t="3298" r="16186" b="10192"/>
          <a:stretch/>
        </p:blipFill>
        <p:spPr>
          <a:xfrm>
            <a:off x="5846760" y="4138560"/>
            <a:ext cx="2084400" cy="21607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C:\Users\Zoran\Downloads\oralna hirurgija\slike\imagesCA4BZV1B.jpg"/>
          <p:cNvPicPr/>
          <p:nvPr/>
        </p:nvPicPr>
        <p:blipFill>
          <a:blip r:embed="rId3"/>
          <a:srcRect l="52367" t="44628" r="1007" b="6465"/>
          <a:stretch/>
        </p:blipFill>
        <p:spPr>
          <a:xfrm>
            <a:off x="5715000" y="1395360"/>
            <a:ext cx="2219400" cy="25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Date Placeholder 3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DDF3-AD15-4F2B-9681-25AE6F673D1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и поступак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245" name="Picture 7" descr="cistektomija 43 i 12,11 sa intraop"/>
          <p:cNvPicPr/>
          <p:nvPr/>
        </p:nvPicPr>
        <p:blipFill>
          <a:blip r:embed="rId1"/>
          <a:stretch/>
        </p:blipFill>
        <p:spPr>
          <a:xfrm>
            <a:off x="2128680" y="3154320"/>
            <a:ext cx="4500720" cy="2467080"/>
          </a:xfrm>
          <a:prstGeom prst="rect">
            <a:avLst/>
          </a:prstGeom>
          <a:ln w="0">
            <a:noFill/>
          </a:ln>
        </p:spPr>
      </p:pic>
      <p:sp>
        <p:nvSpPr>
          <p:cNvPr id="246" name="TextBox 8"/>
          <p:cNvSpPr/>
          <p:nvPr/>
        </p:nvSpPr>
        <p:spPr>
          <a:xfrm>
            <a:off x="480960" y="1636560"/>
            <a:ext cx="812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Ортоградна оптурација канала кор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3"/>
          <p:cNvSpPr/>
          <p:nvPr/>
        </p:nvSpPr>
        <p:spPr>
          <a:xfrm>
            <a:off x="0" y="6424560"/>
            <a:ext cx="3699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114D-7D3A-4667-B5F9-DF6938DD062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и поступак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51" name="TextBox 8"/>
          <p:cNvSpPr/>
          <p:nvPr/>
        </p:nvSpPr>
        <p:spPr>
          <a:xfrm>
            <a:off x="438120" y="1616040"/>
            <a:ext cx="8242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8"/>
          <p:cNvSpPr/>
          <p:nvPr/>
        </p:nvSpPr>
        <p:spPr>
          <a:xfrm>
            <a:off x="433440" y="1395360"/>
            <a:ext cx="8205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Ретроградна оптур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блитерисани канали кор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потпуно канално пуњење код зуба са протетским ра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отетски збринут зуб са кочићем без предходног лечења кан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9" descr="S8001228"/>
          <p:cNvPicPr/>
          <p:nvPr/>
        </p:nvPicPr>
        <p:blipFill>
          <a:blip r:embed="rId1"/>
          <a:stretch/>
        </p:blipFill>
        <p:spPr>
          <a:xfrm>
            <a:off x="157320" y="3236760"/>
            <a:ext cx="4211640" cy="3159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S8001229"/>
          <p:cNvPicPr/>
          <p:nvPr/>
        </p:nvPicPr>
        <p:blipFill>
          <a:blip r:embed="rId2"/>
          <a:stretch/>
        </p:blipFill>
        <p:spPr>
          <a:xfrm>
            <a:off x="4702320" y="3213000"/>
            <a:ext cx="4284360" cy="32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3"/>
          <p:cNvSpPr/>
          <p:nvPr/>
        </p:nvSpPr>
        <p:spPr>
          <a:xfrm>
            <a:off x="0" y="6424560"/>
            <a:ext cx="38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D54A-6246-4A53-A542-A92772EEA81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6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и поступак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259" name="Picture 11" descr="S8001230"/>
          <p:cNvPicPr/>
          <p:nvPr/>
        </p:nvPicPr>
        <p:blipFill>
          <a:blip r:embed="rId1"/>
          <a:stretch/>
        </p:blipFill>
        <p:spPr>
          <a:xfrm>
            <a:off x="228600" y="2471760"/>
            <a:ext cx="4284720" cy="32148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2" descr="S8001231"/>
          <p:cNvPicPr/>
          <p:nvPr/>
        </p:nvPicPr>
        <p:blipFill>
          <a:blip r:embed="rId2"/>
          <a:stretch/>
        </p:blipFill>
        <p:spPr>
          <a:xfrm>
            <a:off x="4667400" y="2482920"/>
            <a:ext cx="4211640" cy="31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Date Placeholder 3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BD7E-9865-437F-B1DA-F790DC288FF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и поступак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65" name="TextBox 7"/>
          <p:cNvSpPr/>
          <p:nvPr/>
        </p:nvSpPr>
        <p:spPr>
          <a:xfrm>
            <a:off x="488880" y="1728720"/>
            <a:ext cx="8217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2" descr="S8001235"/>
          <p:cNvPicPr/>
          <p:nvPr/>
        </p:nvPicPr>
        <p:blipFill>
          <a:blip r:embed="rId1"/>
          <a:srcRect l="5333" t="-203" r="10721" b="8052"/>
          <a:stretch/>
        </p:blipFill>
        <p:spPr>
          <a:xfrm>
            <a:off x="181080" y="2325600"/>
            <a:ext cx="4356000" cy="32688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1" descr="S8001234"/>
          <p:cNvPicPr/>
          <p:nvPr/>
        </p:nvPicPr>
        <p:blipFill>
          <a:blip r:embed="rId2"/>
          <a:srcRect l="23138" t="-206" r="22536" b="1521"/>
          <a:stretch/>
        </p:blipFill>
        <p:spPr>
          <a:xfrm>
            <a:off x="4606920" y="2325600"/>
            <a:ext cx="4356000" cy="326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0" y="6424560"/>
            <a:ext cx="3754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C592-4C3D-4721-AF36-05E3DC23C90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току ресекције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72" name="TextBox 6"/>
          <p:cNvSpPr/>
          <p:nvPr/>
        </p:nvSpPr>
        <p:spPr>
          <a:xfrm>
            <a:off x="469800" y="1852560"/>
            <a:ext cx="8109000" cy="33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Интраоперативна крвар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овреде суседних анатомских струк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овреда суседних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овреда не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Етиологија и патогенеза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73" name="Date Placeholder 3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0C60-D123-4B08-8045-B59AADE7D70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469800" y="2081160"/>
            <a:ext cx="8180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ђу хуморалним медијаторима запаљења најважнији су медијатори коштане ресорпције: простангладини, фактори остеокластичне активације, комплемент, лизозоми и имуноглобулини продубљују реакцију у периапикалном ткиву и учествују у разградњи коштаног тк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ханизми настанка и раста периапикалних лезија су релативно сложени и одвијају се под непосредним учешћем имунопатолошких механизама чији процеси, у случају одлагања лечења, доводе до веће деструкције коштаног тк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4680" y="145800"/>
            <a:ext cx="844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асификација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78" name="Date Placeholder 3"/>
          <p:cNvSpPr/>
          <p:nvPr/>
        </p:nvSpPr>
        <p:spPr>
          <a:xfrm>
            <a:off x="0" y="6424560"/>
            <a:ext cx="3754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49CD-932F-4398-BB36-F896981F324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228600" y="1563840"/>
            <a:ext cx="8194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ршена је на основу хистолошке грађе, одређиване после хируршког уклања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ериапикални процеси се данас називају – хроничним периапикалним инфламаторним лезиј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нија класификација је углавном вршена 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parodontitis apicalis chronica fibr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parodontitis apicalis chronica dif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parodontitis apicalis chronica circumscrip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C:\Users\Zoran\Downloads\oralna hirurgija\slike\download (26).jpg"/>
          <p:cNvPicPr/>
          <p:nvPr/>
        </p:nvPicPr>
        <p:blipFill>
          <a:blip r:embed="rId1"/>
          <a:stretch/>
        </p:blipFill>
        <p:spPr>
          <a:xfrm>
            <a:off x="5846760" y="3833640"/>
            <a:ext cx="3297240" cy="26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асификација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91B7-2500-4870-8647-3B9A284CC5F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457200" y="1768320"/>
            <a:ext cx="8132760" cy="29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Spatafore</a:t>
            </a: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 199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ериапикални грану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дикуларна ци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ериапикални ожиљ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стале лез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асификација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89" name="Date Placeholder 3"/>
          <p:cNvSpPr/>
          <p:nvPr/>
        </p:nvSpPr>
        <p:spPr>
          <a:xfrm>
            <a:off x="0" y="6424560"/>
            <a:ext cx="387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7A49-5D47-4B8D-92D5-ED79B222249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366840" y="1503360"/>
            <a:ext cx="84056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ЕРИАПИКАЛНИ ГРАНУЛОМ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Н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јчешће се среће на врху корена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киво ових лезија саграђено је  од хронично инфламираног везивног ткива, при чему су поједине компоненте (запаљенски инфилтрат, гранулације, фиброплазија) изражене у различитом степе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централном делу гранулома налазе се гранулације и инфламаторни инфилтрат, а на периферији доминира фиброплазија која формира више или мање изражену везивно-ткивну капсу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апаљенски инфилтрат гранулома чине ћелије хроничног запаљења (плазмоцити, лимфоцити, макрофаги и гранулоцит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261D-B519-4701-9D8C-90CF443B03C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асификација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433440" y="1757520"/>
            <a:ext cx="8217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зависности од доминације појединих компонената запаљења, грануломи су дефинисани као грануломатозни, фиброзни, ексудативни или епител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РАДИКУЛАРНА (ПЕРИАПИКАЛНА) ЦИ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 лезија која настаје даљом прогредијенцијом епителних гранулома. Настају лезије које имају лумен испуњен садржајем и омот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мотач радикуларних циста се састоји од  два слоја: спољашњег састављеног од везивног ткива и унутрашњег који је изграђен  од епи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AE4A-824B-4E42-A325-062F9A333EF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асификација периапикалних лез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469800" y="1684440"/>
            <a:ext cx="8120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ЕРИАПИКАЛНИ ОЖИЉАК 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 лезија која се налази на врху корена хируршки лечених зуба и на радиографији имитирају присуство гранул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Хистолошки, изграђени су од фиброзног тк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ОСТАЛЕ ПЕРИАПИКАЛНЕ ЛЕЗ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у друге патолошке творевине које нису дентогеног порек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ка развојна обољења (цементно-осеална дисплазиј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Хематолошка обољења (хронична лимфоцитна леукемиј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Бенигни тумори (фибром, остеобластом, одонтогени миксо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алигни метастатски тумори (карцином дојке, бубрега, остеосарко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20:52:51Z</dcterms:created>
  <dc:creator>Каја</dc:creator>
  <dc:description/>
  <dc:language>en-US</dc:language>
  <cp:lastModifiedBy>Korisnik</cp:lastModifiedBy>
  <dcterms:modified xsi:type="dcterms:W3CDTF">2019-09-09T16:03:16Z</dcterms:modified>
  <cp:revision>1499</cp:revision>
  <dc:subject/>
  <dc:title>NAZIV PREDAVANJA</dc:title>
</cp:coreProperties>
</file>